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F150-3D00-4CF9-BBE1-A48925F0A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F20B-B2A7-4860-8BEE-9AE1350A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A68B-FA7E-4574-99F5-D56B4A16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636E-4E57-494D-86F1-39831884C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404-00DF-484C-AFBA-0D11FB48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CA0-A7C5-4069-A516-7FB4C86C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454-2777-4D67-A235-29131CE1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FAC-A485-4215-B687-54D99FE3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6FC7-E6D0-4221-B0FE-98CA1F6E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A088-F36E-448D-A5D3-03F7209F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E16F-7AD9-4650-9E5D-99FB4AE6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EAA5-5505-479C-B898-09E86E52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7EE2-78E9-482E-AFB6-62D52893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B4E2-2716-4397-8435-16D6C294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12CF-EE4E-4164-8925-8EC50112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19F-59CB-47F1-B926-673AA20C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2ED8-D61F-463C-942A-596A2019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422D-C62F-43C1-B474-4D0548D4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6560-51F7-470D-BC46-14D19EDE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BAB2-5061-48E7-ACA0-45E0263C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77F4-3AB2-4E4E-A845-6E292560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1F1-0986-4B56-B170-9AB1CC2E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5E3-7051-4BE5-8725-99E4001A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2C4-FA25-41B5-9A6E-53F1B018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FB3-B6A4-4692-9CB6-5FD43899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5FC-C4B3-443E-A370-6A8077C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D37-16C1-428E-9638-51A791CE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5B3-860B-4B3E-868D-D7D3D1F5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D538-218A-4115-8510-91469C73D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6BDA-90F7-46C1-9560-8EAC14025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13" descr="j0078625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4"/>
          <p:cNvSpPr/>
          <p:nvPr/>
        </p:nvSpPr>
        <p:spPr>
          <a:xfrm>
            <a:off x="5029200" y="2895480"/>
            <a:ext cx="2895480" cy="1524240"/>
          </a:xfrm>
          <a:prstGeom prst="cloudCallout">
            <a:avLst>
              <a:gd name="adj1" fmla="val -60634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chaînes de télévision en Franc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8077320" cy="4770360"/>
        </p:xfrm>
        <a:graphic>
          <a:graphicData uri="http://schemas.openxmlformats.org/drawingml/2006/table">
            <a:tbl>
              <a:tblPr/>
              <a:tblGrid>
                <a:gridCol w="2667240"/>
                <a:gridCol w="27176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Stations de télévision en France sont attractifs parce que les programmes de divertissement, séries, documentaireset des nouvelles</a:t>
                      </a: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-Celles qui présente le spectacle le plus crédi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-Celles qui s'impliquer dans la réalisation des programmes de bienfaisance</a:t>
                      </a: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-Des programmes de télévision savent très bien pour attirer les spectateurs la diversité des programm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39" descr="j0078625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- écoute quotidienne un spectacle en français  J'ai certainement apprendre de nouveaux mots</a:t>
                      </a:r>
                      <a:r>
                        <a:rPr b="0" lang="en-US" sz="2000" spc="-1" strike="noStrike">
                          <a:solidFill>
                            <a:srgbClr val="9900ff"/>
                          </a:solidFill>
                          <a:latin typeface="Verdan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Je veux savoir s'il ya question “d'apprendre le français”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ff"/>
                          </a:solidFill>
                          <a:latin typeface="Comic Sans MS"/>
                        </a:rPr>
                        <a:t>-à lire facile regarder des spectacles sous-titré en franç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49" descr="j0078625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t</cp:lastModifiedBy>
  <dcterms:modified xsi:type="dcterms:W3CDTF">2011-10-29T19:10:57Z</dcterms:modified>
  <cp:revision>27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